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CFC-CA58-4BA6-93FC-56A3E6DD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7B9-68F2-4190-8FDF-44BE75D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D31-BD2B-4584-A152-BDF039BF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848-D1A6-4637-B282-A1DDBDE4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613-CFD4-4865-A5E2-E3336363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62A-C438-4EAB-A973-23663B8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B7F-1922-4B3A-B8DB-BCEDEB0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B96-A0C6-429C-8F90-70D6571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C89-75EE-49D3-A081-6BC546B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23D-DD4C-4FF1-8D40-5ADD53B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65A-BE35-4DDD-805A-D09B3F0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FFC-43B7-48C0-97C7-F6A123F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930-1629-40E2-8BFC-D7823B6C466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خذ يا  ربّ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صوتك يدعوني يا صديقي الوديع نعمتك تغمرني, قلبك يجذب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يدك تنشلني,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ضطرم حبّا و اليك أتو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نظراتك تلهمني يا صديقي الحبيب وجهك موطني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193840"/>
            <a:ext cx="7093080" cy="740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خذ يا ربّي و اقبل منّ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كلّ ذاتي و افعل بها ما تش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حبّ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روح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نعمتك وحدها تكفيني. (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3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Personal</cp:lastModifiedBy>
  <dcterms:modified xsi:type="dcterms:W3CDTF">2008-04-26T08:27:32Z</dcterms:modified>
  <cp:revision>7</cp:revision>
  <dc:subject/>
  <dc:title>PowerPoint Presentation</dc:title>
</cp:coreProperties>
</file>